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21511-6AC5-4E3B-9BE7-B274FD4C1C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6AC7E-BE17-4416-99BA-2E27FBF5664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89F11-3154-4EEB-A310-0EFC990A25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72D02-9F07-48DB-AD5E-A585B2B33A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C168-33BB-4F2F-83A6-835C30A75F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F440-8CFE-43F5-A2EB-A4C94510EB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1964C-EDD5-4BB3-BCFE-AFD9E90CE81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4F6BF-AC92-4FC0-B167-8C7DB4F04C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07CA3-931C-458A-875F-358A239774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3B24D-30D3-4941-86E7-BE2D4C322B2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84C65-D620-4990-A997-B7B4FA8C9E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E873E-39F0-4F78-B060-367BB4A4FD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541D8-295F-4F24-BFF5-BE42B68E44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693F1-0A9D-4752-9D31-0D3EE41EF95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E5A9B-C101-4CC3-A574-7FC0E5BE93F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7C23-0C12-4321-B6B6-1A2AAF982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3A6E-EDAA-4D14-97A1-8D6256D0F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BA46-7EE4-4596-BF7E-7638C0001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F296-B44A-4202-855A-EBCA7DD69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0EDBB-0630-4DD8-B75D-1E1731F3C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E8AD6-5A1C-4244-9FC6-23219CED9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11DAB-1E4B-4D1F-9165-EA64FFB40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192F7-6EBB-47EA-805C-BD5781510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036FD-489F-4C85-8496-DACDAFA30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F6BE6-F000-4E14-AB32-A8A60DD94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73E60-B01B-41B7-98CD-E79872BF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6E4E-6A0C-468B-AEF8-ADFBC58BA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9F22A-0B47-48A0-859A-A0147D83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4C1C5-9759-4536-BD88-3C67D026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B2F6D-9C50-487C-A16F-A8BA641AF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F12AD-F205-40E6-A7F5-3EB7A5E99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AB466-841A-46C5-969F-027AA8968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235F-32FB-49A6-8B49-64C258E3A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214B-0BFE-48A4-9261-BC92366FA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311C-19B5-453C-A6B0-D2F2DC447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3CEE-DAEA-4B1F-BF73-ABAFA5A8A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BDC3-62FC-431A-8D20-F4AC7966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D0AA-324A-4077-9B69-31428405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9F2A-78A5-4100-95D8-FA8B0D5E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3A262-6276-4285-A82B-811AF06063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611DD-92A1-47A3-AE94-4A5A63DAD8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304920" y="457200"/>
            <a:ext cx="5181480" cy="27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MoolBoran"/>
              </a:rPr>
              <a:t>Geoffrey Chaucer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oolBoran"/>
              </a:rPr>
              <a:t>(c. 1343 – 1400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8" descr="geoffrey_chaucer"/>
          <p:cNvPicPr/>
          <p:nvPr/>
        </p:nvPicPr>
        <p:blipFill>
          <a:blip r:embed="rId1"/>
          <a:stretch/>
        </p:blipFill>
        <p:spPr>
          <a:xfrm>
            <a:off x="5410080" y="380880"/>
            <a:ext cx="3057480" cy="39340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2"/>
          <p:cNvSpPr/>
          <p:nvPr/>
        </p:nvSpPr>
        <p:spPr>
          <a:xfrm>
            <a:off x="5486400" y="39625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olBoran"/>
              </a:rPr>
              <a:t>Image from  famouspoetsandpoems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685800" y="2286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olBoran"/>
              </a:rPr>
              <a:t>Types of Stor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914400" y="106668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MoolBor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olBoran"/>
              </a:rPr>
              <a:t>Bestiary – animals personified and characterized as hum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914400" y="23623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MoolBor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olBoran"/>
              </a:rPr>
              <a:t>Fabliaux – bawdy, humorous t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838080" y="327672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MoolBor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olBoran"/>
              </a:rPr>
              <a:t>Chivalric romance – elements of chivalric code; romantic liter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914400" y="480060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MoolBor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olBoran"/>
              </a:rPr>
              <a:t>Folk tale/Moral tale – explicit moral or point to a s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4"/>
          <p:cNvSpPr/>
          <p:nvPr/>
        </p:nvSpPr>
        <p:spPr>
          <a:xfrm>
            <a:off x="685800" y="30492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olBoran"/>
              </a:rPr>
              <a:t>Social Clas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838080" y="13716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MoolBor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olBoran"/>
              </a:rPr>
              <a:t>Nobility – Knight, Squire, Yeo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914400" y="22096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MoolBor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olBoran"/>
              </a:rPr>
              <a:t>Clerical – Monk, Friar, Prioress, Nun’s Pri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838080" y="29718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MoolBor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olBoran"/>
              </a:rPr>
              <a:t>Worker/Merchant/Middle Class – Merchant, Oxford Cleric, Sergeant at Law, Franklin, Guild Members, Wife of Ba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838080" y="4724280"/>
            <a:ext cx="80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MoolBor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olBoran"/>
              </a:rPr>
              <a:t>Lowest Class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olBor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MoolBoran"/>
              </a:rPr>
              <a:t>Marginal – Reeve, Miller, Pardoner, Summo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olBor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MoolBoran"/>
              </a:rPr>
              <a:t>Good people – Parson, Plow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4"/>
          <p:cNvSpPr/>
          <p:nvPr/>
        </p:nvSpPr>
        <p:spPr>
          <a:xfrm>
            <a:off x="838080" y="457200"/>
            <a:ext cx="746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olBoran"/>
              </a:rPr>
              <a:t>City:  Southwar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838080" y="160020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olBoran"/>
              </a:rPr>
              <a:t>Month:  Apri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838080" y="281952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olBoran"/>
              </a:rPr>
              <a:t>Inn:  Tabar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838080" y="4038480"/>
            <a:ext cx="7391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838080" y="411480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olBoran"/>
              </a:rPr>
              <a:t>Purpose:  Pilgrimage to the shrine of St. Thomas a Beck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762120" y="228600"/>
            <a:ext cx="78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olBoran"/>
              </a:rPr>
              <a:t>Pilgrimage – a religious journey made to a shrine or holy pla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838080" y="190512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olBoran"/>
              </a:rPr>
              <a:t>They are from all stations and stages of lif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838080" y="3352680"/>
            <a:ext cx="7848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olBoran"/>
              </a:rPr>
              <a:t>Traveling on horseback from London to Canterbury Cathedral to the shrine of Thomas a  Beck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838080" y="5486400"/>
            <a:ext cx="7620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olBoran"/>
              </a:rPr>
              <a:t>Canterbury is about 55 miles southeast of Londo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5" descr="united_kingdom_cornwall_map"/>
          <p:cNvPicPr/>
          <p:nvPr/>
        </p:nvPicPr>
        <p:blipFill>
          <a:blip r:embed="rId1"/>
          <a:stretch/>
        </p:blipFill>
        <p:spPr>
          <a:xfrm>
            <a:off x="838080" y="1371600"/>
            <a:ext cx="3267360" cy="39337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6"/>
          <p:cNvSpPr/>
          <p:nvPr/>
        </p:nvSpPr>
        <p:spPr>
          <a:xfrm>
            <a:off x="990720" y="5334120"/>
            <a:ext cx="32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mage from www.world-guides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8" descr="Canterbury-Cathedral"/>
          <p:cNvPicPr/>
          <p:nvPr/>
        </p:nvPicPr>
        <p:blipFill>
          <a:blip r:embed="rId2"/>
          <a:stretch/>
        </p:blipFill>
        <p:spPr>
          <a:xfrm>
            <a:off x="4724280" y="457200"/>
            <a:ext cx="3333960" cy="26956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9"/>
          <p:cNvSpPr/>
          <p:nvPr/>
        </p:nvSpPr>
        <p:spPr>
          <a:xfrm>
            <a:off x="4724280" y="3200400"/>
            <a:ext cx="32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mage from www.guyndo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11" descr="site_of_thomas_becket_shrine"/>
          <p:cNvPicPr/>
          <p:nvPr/>
        </p:nvPicPr>
        <p:blipFill>
          <a:blip r:embed="rId3"/>
          <a:stretch/>
        </p:blipFill>
        <p:spPr>
          <a:xfrm>
            <a:off x="4724280" y="3733920"/>
            <a:ext cx="3353040" cy="244944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13"/>
          <p:cNvSpPr/>
          <p:nvPr/>
        </p:nvSpPr>
        <p:spPr>
          <a:xfrm>
            <a:off x="4800600" y="6248520"/>
            <a:ext cx="32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mage from www.theducks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14"/>
          <p:cNvSpPr/>
          <p:nvPr/>
        </p:nvSpPr>
        <p:spPr>
          <a:xfrm>
            <a:off x="4800600" y="22860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olBoran"/>
              </a:rPr>
              <a:t>Canterbury Cathed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5"/>
          <p:cNvSpPr/>
          <p:nvPr/>
        </p:nvSpPr>
        <p:spPr>
          <a:xfrm>
            <a:off x="4800600" y="35053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olBoran"/>
              </a:rPr>
              <a:t>Shrine of Thomas a Be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62120" y="914040"/>
            <a:ext cx="8007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MoolBor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olBoran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MoolBoran"/>
              </a:rPr>
              <a:t>Father of English poetry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MoolBor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olBoran"/>
              </a:rPr>
              <a:t>Made the English language respectab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MoolBor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olBoran"/>
              </a:rPr>
              <a:t>Wrote in the </a:t>
            </a:r>
            <a:r>
              <a:rPr b="1" lang="en-US" sz="4000" spc="-1" strike="noStrike">
                <a:solidFill>
                  <a:srgbClr val="ffffff"/>
                </a:solidFill>
                <a:latin typeface="MoolBoran"/>
              </a:rPr>
              <a:t>vernacular</a:t>
            </a:r>
            <a:r>
              <a:rPr b="0" lang="en-US" sz="4000" spc="-1" strike="noStrike">
                <a:solidFill>
                  <a:srgbClr val="ffffff"/>
                </a:solidFill>
                <a:latin typeface="MoolBoran"/>
              </a:rPr>
              <a:t> – the everyday language spoken in Lond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838080" y="533520"/>
            <a:ext cx="769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MoolBor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olBoran"/>
              </a:rPr>
              <a:t>Born into a middle-class family in Lond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838080" y="1219320"/>
            <a:ext cx="7315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838080" y="1828800"/>
            <a:ext cx="7772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MoolBor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olBoran"/>
              </a:rPr>
              <a:t>Father – wine merchant; could provide Chaucer with some education; rising middle cla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838080" y="388620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MoolBor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olBoran"/>
              </a:rPr>
              <a:t>Chaucer became a pa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838080" y="4800600"/>
            <a:ext cx="7620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MoolBor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olBoran"/>
              </a:rPr>
              <a:t>Became attached to several noble patr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762120" y="380880"/>
            <a:ext cx="7696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MoolBor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olBoran"/>
              </a:rPr>
              <a:t>Captured during the Hundred Years’ War—king contributed to his rans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838080" y="190512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MoolBor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olBoran"/>
              </a:rPr>
              <a:t>Traveled to Italy; influenced by Dante, Petrarch, and Boccac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838080" y="358128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MoolBor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olBoran"/>
              </a:rPr>
              <a:t>Died October 25, 14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838080" y="464832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MoolBor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olBoran"/>
              </a:rPr>
              <a:t>First English writer to be buried in Poet’s Corner in Westminster Abb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838080" y="3808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olBoran"/>
              </a:rPr>
              <a:t>The Canterbury Ta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838080" y="167652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MoolBor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olBoran"/>
              </a:rPr>
              <a:t>Chaucer’s most famous wor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914400" y="2590920"/>
            <a:ext cx="731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MoolBor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olBoran"/>
              </a:rPr>
              <a:t>120 tales were planned; only 24 were complet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838080" y="419112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MoolBor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olBoran"/>
              </a:rPr>
              <a:t>Began in 1387; never finish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838080" y="22860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olBoran"/>
              </a:rPr>
              <a:t>Chaucer’s roles in </a:t>
            </a:r>
            <a:r>
              <a:rPr b="0" i="1" lang="en-US" sz="4000" spc="-1" strike="noStrike">
                <a:solidFill>
                  <a:srgbClr val="ffffff"/>
                </a:solidFill>
                <a:latin typeface="MoolBoran"/>
              </a:rPr>
              <a:t>The Canterbury Ta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685800" y="1905120"/>
            <a:ext cx="80010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MoolBor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olBoran"/>
              </a:rPr>
              <a:t>Poet/auth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MoolBor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olBoran"/>
              </a:rPr>
              <a:t>Narrat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MoolBor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olBoran"/>
              </a:rPr>
              <a:t>Pilgrim – his poem is interrupted because it is so bad (iron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533520" y="53352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olBoran"/>
              </a:rPr>
              <a:t>Characteristics of Chauc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762120" y="114300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MoolBor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olBoran"/>
              </a:rPr>
              <a:t>Reflects Middle Ages and Renaiss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838080" y="182880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MoolBor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olBoran"/>
              </a:rPr>
              <a:t>Very good at descri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838080" y="251460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MoolBor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olBoran"/>
              </a:rPr>
              <a:t>Contact with real life and fellow m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838080" y="3352680"/>
            <a:ext cx="739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MoolBor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olBoran"/>
              </a:rPr>
              <a:t>Very good insight into human n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838080" y="41148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MoolBor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olBoran"/>
              </a:rPr>
              <a:t>First English author to feel the influence of the Renaiss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838080" y="54864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MoolBor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olBoran"/>
              </a:rPr>
              <a:t>Reached out for new thoughts and id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838080" y="457200"/>
            <a:ext cx="74678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838080" y="22860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MoolBor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olBoran"/>
              </a:rPr>
              <a:t>Written in </a:t>
            </a:r>
            <a:r>
              <a:rPr b="1" lang="en-US" sz="2400" spc="-1" strike="noStrike">
                <a:solidFill>
                  <a:srgbClr val="ffffff"/>
                </a:solidFill>
                <a:latin typeface="MoolBoran"/>
              </a:rPr>
              <a:t>iambic pentameter</a:t>
            </a:r>
            <a:r>
              <a:rPr b="0" lang="en-US" sz="2400" spc="-1" strike="noStrike">
                <a:solidFill>
                  <a:srgbClr val="ffffff"/>
                </a:solidFill>
                <a:latin typeface="MoolBoran"/>
              </a:rPr>
              <a:t> – ten syllables (an unstressed syllable followed by a stressed syllable); closely matches the way English is spo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838080" y="45720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MoolBor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olBoran"/>
              </a:rPr>
              <a:t>Frame story – an introductory narrative within which one or more of the characters proceed to tell individual sto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838080" y="380988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MoolBor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olBoran"/>
              </a:rPr>
              <a:t>Heroic couplet – rhymed pairs of five-beat iambic 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838080" y="48006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MoolBor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olBoran"/>
              </a:rPr>
              <a:t>Satire – a kind of writing that ridicules human weakness, vice, or folly in order to bring about ref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838080" y="228600"/>
            <a:ext cx="7315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olBoran"/>
              </a:rPr>
              <a:t>Characterization – the process by which the writer reveals the personality of a charac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914400" y="1905120"/>
            <a:ext cx="7391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914400" y="13716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MoolBor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olBoran"/>
              </a:rPr>
              <a:t>How the character looks and dr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914400" y="21337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MoolBor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olBoran"/>
              </a:rPr>
              <a:t>How the character speaks and a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914400" y="27432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MoolBor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olBoran"/>
              </a:rPr>
              <a:t>What the character thinks and fe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914400" y="34290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MoolBor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olBoran"/>
              </a:rPr>
              <a:t>How others respond to the charac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838080" y="47242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olBoran"/>
              </a:rPr>
              <a:t>Characterization may be direct (author TELLS the reader what a character is like) or indirect (author SHOWS what the character is like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2T17:59:48Z</dcterms:created>
  <dc:creator>Trina</dc:creator>
  <dc:description/>
  <dc:language>en-US</dc:language>
  <cp:lastModifiedBy> </cp:lastModifiedBy>
  <dcterms:modified xsi:type="dcterms:W3CDTF">2009-02-10T14:13:22Z</dcterms:modified>
  <cp:revision>4</cp:revision>
  <dc:subject/>
  <dc:title>Slide 1</dc:title>
</cp:coreProperties>
</file>